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FA6-18DB-4E67-81B5-E921862C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AA9-66D1-4A9E-8CF1-68D7591A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97C-0328-4A27-B7B8-680BE3D1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581-F796-40DD-94A9-2B9900AD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C5A0-FBCC-4C98-9EDE-FF9DE3A4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23C6-8E12-4E7F-AB3E-D685541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53E4-4DB2-4A35-8F9E-0074970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D40-CB84-43CD-AD41-F09473C0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520-4376-43DF-B191-C5D1581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FA9-A107-41BC-8477-3F054E0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617-6F42-4FB5-B9F9-131B59E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110-1504-493D-BD99-03B9600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E3B7-3225-49D7-B79F-A207CFA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1866-2CCB-456A-93F6-FC34596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D9B-80E6-4CB1-8D6B-E9E55C9D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7875-26A6-4D89-B015-CE436554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398-5C58-49F5-861E-2BAF9264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963F-7655-47C3-A325-744E5165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0ED1-74E3-4124-B5E8-659992A2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B33C-D690-45F4-A873-E2D58ABC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D424-42AB-4934-81FD-6C8E0B2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3F42-12E9-4DD8-AB6E-D3D223B2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4FF-0F99-498D-B58D-A028D3C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F2D2-8528-44BF-A455-1065728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CA52-291C-4B14-AB4F-77FE659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83F3-49D8-45D6-819A-2512AAA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C27C-3FD9-4490-83AF-522DE6D0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95EC-CDFA-48DE-ADEF-1569419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CE8B-FA57-4C4D-B8A8-73746101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D822-9BFA-4985-90E4-731D134A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5E1-01C4-4EC7-8E6C-9BB0A59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4F4-07B4-416A-B7CA-C3D8355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B99-CE3E-4A62-8A1F-9F4DE0F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E4E-614B-4288-AE30-836DE9D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A6B-F24B-47A7-8802-B32C2C9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64D-271C-467D-8862-5008D4EA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7D2-64E8-4545-BABA-2BE59B46A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EF7-C1EC-40F7-8F8E-86216AD2382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27D-EFC7-4297-B7BE-005F821B92A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260280"/>
            <a:ext cx="86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h 12 – Our place in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800" y="1311120"/>
            <a:ext cx="51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12.2 Special Rel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06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D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60" y="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907920"/>
            <a:ext cx="84456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proton has a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v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). How long does the proton think it takes to travel across the galaxy which is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y w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09840" y="3290760"/>
            <a:ext cx="1707840" cy="1332720"/>
            <a:chOff x="1509840" y="3290760"/>
            <a:chExt cx="1707840" cy="1332720"/>
          </a:xfrm>
        </p:grpSpPr>
        <p:sp>
          <p:nvSpPr>
            <p:cNvPr id="263" name=""/>
            <p:cNvSpPr/>
            <p:nvPr/>
          </p:nvSpPr>
          <p:spPr>
            <a:xfrm>
              <a:off x="2716200" y="329076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3720" y="385920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3120" y="399240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09840" y="3431880"/>
              <a:ext cx="42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8200" y="35794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59320" y="3376440"/>
            <a:ext cx="2324160" cy="1277640"/>
            <a:chOff x="3559320" y="3376440"/>
            <a:chExt cx="2324160" cy="1277640"/>
          </a:xfrm>
        </p:grpSpPr>
        <p:sp>
          <p:nvSpPr>
            <p:cNvPr id="269" name=""/>
            <p:cNvSpPr/>
            <p:nvPr/>
          </p:nvSpPr>
          <p:spPr>
            <a:xfrm>
              <a:off x="3559320" y="3592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58720" y="3376440"/>
              <a:ext cx="172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 x 1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8160" y="4011480"/>
              <a:ext cx="98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26040" y="4011480"/>
              <a:ext cx="16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027840" y="3578400"/>
            <a:ext cx="1422720" cy="642600"/>
            <a:chOff x="6027840" y="3578400"/>
            <a:chExt cx="1422720" cy="642600"/>
          </a:xfrm>
        </p:grpSpPr>
        <p:sp>
          <p:nvSpPr>
            <p:cNvPr id="274" name=""/>
            <p:cNvSpPr/>
            <p:nvPr/>
          </p:nvSpPr>
          <p:spPr>
            <a:xfrm>
              <a:off x="6027840" y="35784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2200" y="35784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0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8960" y="5877000"/>
            <a:ext cx="90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Note: 10</a:t>
            </a:r>
            <a:r>
              <a:rPr b="0" lang="en-GB" sz="3600" spc="-1" strike="noStrike" baseline="30000">
                <a:solidFill>
                  <a:srgbClr val="cc0099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ly = 3 x 10</a:t>
            </a:r>
            <a:r>
              <a:rPr b="0" lang="en-GB" sz="3600" spc="-1" strike="noStrike" baseline="30000">
                <a:solidFill>
                  <a:srgbClr val="cc0099"/>
                </a:solidFill>
                <a:latin typeface="Arial"/>
              </a:rPr>
              <a:t>12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s when travelling at 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720" y="12384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nteresting con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83200" y="2714760"/>
            <a:ext cx="103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76280" y="2427120"/>
            <a:ext cx="3087720" cy="2082600"/>
            <a:chOff x="2276280" y="2427120"/>
            <a:chExt cx="3087720" cy="2082600"/>
          </a:xfrm>
        </p:grpSpPr>
        <p:sp>
          <p:nvSpPr>
            <p:cNvPr id="280" name=""/>
            <p:cNvSpPr/>
            <p:nvPr/>
          </p:nvSpPr>
          <p:spPr>
            <a:xfrm>
              <a:off x="4546440" y="386712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39402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5280" y="3435480"/>
              <a:ext cx="1584360" cy="1008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37080" y="336240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–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5240" y="2427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64000" y="312912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8000" y="3284640"/>
              <a:ext cx="2016000" cy="1152360"/>
            </a:xfrm>
            <a:custGeom>
              <a:avLst/>
              <a:gdLst/>
              <a:ahLst/>
              <a:rect l="l" t="t" r="r" b="b"/>
              <a:pathLst>
                <a:path w="1316" h="726">
                  <a:moveTo>
                    <a:pt x="0" y="590"/>
                  </a:moveTo>
                  <a:lnTo>
                    <a:pt x="46" y="726"/>
                  </a:lnTo>
                  <a:lnTo>
                    <a:pt x="136" y="0"/>
                  </a:lnTo>
                  <a:lnTo>
                    <a:pt x="13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6280" y="2714760"/>
              <a:ext cx="91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6440" y="329076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86160" y="4653000"/>
            <a:ext cx="1707840" cy="1332720"/>
            <a:chOff x="686160" y="4653000"/>
            <a:chExt cx="1707840" cy="1332720"/>
          </a:xfrm>
        </p:grpSpPr>
        <p:sp>
          <p:nvSpPr>
            <p:cNvPr id="290" name=""/>
            <p:cNvSpPr/>
            <p:nvPr/>
          </p:nvSpPr>
          <p:spPr>
            <a:xfrm>
              <a:off x="1892520" y="465300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50040" y="522144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19440" y="535464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6160" y="4794120"/>
              <a:ext cx="42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4520" y="4941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400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 a photon emitted then absorbed after time, t, in our FoR. How much time does the photon think passes? v =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628720" y="4653000"/>
            <a:ext cx="1219320" cy="1334160"/>
            <a:chOff x="2628720" y="4653000"/>
            <a:chExt cx="1219320" cy="1334160"/>
          </a:xfrm>
        </p:grpSpPr>
        <p:sp>
          <p:nvSpPr>
            <p:cNvPr id="297" name=""/>
            <p:cNvSpPr/>
            <p:nvPr/>
          </p:nvSpPr>
          <p:spPr>
            <a:xfrm>
              <a:off x="2628720" y="4941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28920" y="465300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46840" y="5222880"/>
              <a:ext cx="60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76720" y="5354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194360" y="494172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 0 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5080" y="495468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.e. time stands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160" y="5950080"/>
            <a:ext cx="91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lains limit of c – otherwise goes back in time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849960" y="1170000"/>
            <a:ext cx="3520800" cy="1783080"/>
            <a:chOff x="849960" y="1170000"/>
            <a:chExt cx="3520800" cy="1783080"/>
          </a:xfrm>
        </p:grpSpPr>
        <p:sp>
          <p:nvSpPr>
            <p:cNvPr id="305" name=""/>
            <p:cNvSpPr/>
            <p:nvPr/>
          </p:nvSpPr>
          <p:spPr>
            <a:xfrm>
              <a:off x="1835280" y="2203560"/>
              <a:ext cx="2520720" cy="647640"/>
            </a:xfrm>
            <a:custGeom>
              <a:avLst/>
              <a:gdLst/>
              <a:ahLst/>
              <a:rect l="l" t="t" r="r" b="b"/>
              <a:pathLst>
                <a:path w="1134" h="771">
                  <a:moveTo>
                    <a:pt x="0" y="635"/>
                  </a:moveTo>
                  <a:lnTo>
                    <a:pt x="45" y="771"/>
                  </a:lnTo>
                  <a:lnTo>
                    <a:pt x="90" y="0"/>
                  </a:lnTo>
                  <a:lnTo>
                    <a:pt x="11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6560" y="224964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1 – v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/ c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6720" y="19875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73800" y="1170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9960" y="1432080"/>
              <a:ext cx="10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003640" y="17002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ativistic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1120" y="20160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reviously in a Physics less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00360" y="4005360"/>
            <a:ext cx="60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factor by which time is dilated due to viewing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2374920" cy="2017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476360" y="5229360"/>
            <a:ext cx="431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457200" y="404640"/>
          <a:ext cx="822960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4640"/>
                    <a:ext cx="8229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358520" y="60213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/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2687400" y="302652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&amp; non-relativistic Doppler sh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41760" y="450864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Non-relativistic Dop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98480" y="90792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ivistic Dop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fferences in relativistic &amp; non-relativistic doppler shift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35880" y="12477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1 + v/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27640" y="479736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(1 + v/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01800" y="2997360"/>
            <a:ext cx="5444640" cy="1584000"/>
            <a:chOff x="901800" y="2997360"/>
            <a:chExt cx="5444640" cy="1584000"/>
          </a:xfrm>
        </p:grpSpPr>
        <p:sp>
          <p:nvSpPr>
            <p:cNvPr id="325" name=""/>
            <p:cNvSpPr/>
            <p:nvPr/>
          </p:nvSpPr>
          <p:spPr>
            <a:xfrm>
              <a:off x="901800" y="2997360"/>
              <a:ext cx="54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K approximation until ~ v = 0.3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1640" y="3500280"/>
              <a:ext cx="216000" cy="10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76560" y="27468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inders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2720" y="1341360"/>
            <a:ext cx="60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Light travels at c for all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4437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meone else’s wristwatch wil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ppear to yo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to tick slower if they are moving relativ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8200" y="184464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Postul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2781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ristwatch” time is consistent for every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561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5520" y="1052640"/>
            <a:ext cx="89884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0884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932040"/>
            <a:ext cx="3487680" cy="2617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58920" y="2057400"/>
            <a:ext cx="28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ight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6360" y="3137040"/>
            <a:ext cx="93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 tick is the sending and receiving of a light pu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2421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2637000"/>
            <a:ext cx="1439640" cy="19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132000" y="-459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2195280" y="-1108080"/>
            <a:ext cx="1439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1979280" y="643680"/>
            <a:ext cx="1865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595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979280" y="2396880"/>
            <a:ext cx="1865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2440" y="2347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9113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travels = 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08360" y="981000"/>
            <a:ext cx="579600" cy="1440000"/>
            <a:chOff x="3708360" y="981000"/>
            <a:chExt cx="579600" cy="1440000"/>
          </a:xfrm>
        </p:grpSpPr>
        <p:sp>
          <p:nvSpPr>
            <p:cNvPr id="165" name=""/>
            <p:cNvSpPr/>
            <p:nvPr/>
          </p:nvSpPr>
          <p:spPr>
            <a:xfrm>
              <a:off x="3708360" y="981000"/>
              <a:ext cx="0" cy="144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52720" y="1395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371480" y="436572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taken = 2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21200" y="364500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 speed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3800" y="5840280"/>
            <a:ext cx="26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d = c x 2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22840" y="522936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stance = speed x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69228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Wristwatch time of mirror &amp; also snail as no relativ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76720" y="1268280"/>
            <a:ext cx="395280" cy="36036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51960" y="5842080"/>
            <a:ext cx="15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 = c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800" y="4932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irrors stationary relative to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3440" y="135900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 c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4104E-006 L 2.5E-006 -0.20971 E">
                                      <p:cBhvr>
                                        <p:cTn id="6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62428E-006 L 4.16667E-006 0.20972 E">
                                      <p:cBhvr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V="1">
            <a:off x="2627280" y="993240"/>
            <a:ext cx="1728720" cy="1427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356000" y="991800"/>
            <a:ext cx="1656000" cy="1366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981000"/>
            <a:ext cx="3744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87172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421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2637000"/>
            <a:ext cx="1439640" cy="19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56000" y="-459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2195640" y="-1107720"/>
            <a:ext cx="4032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92000" y="595440"/>
            <a:ext cx="1865160" cy="459720"/>
            <a:chOff x="1692000" y="595440"/>
            <a:chExt cx="1865160" cy="459720"/>
          </a:xfrm>
        </p:grpSpPr>
        <p:sp>
          <p:nvSpPr>
            <p:cNvPr id="185" name=""/>
            <p:cNvSpPr/>
            <p:nvPr/>
          </p:nvSpPr>
          <p:spPr>
            <a:xfrm rot="10800000">
              <a:off x="1692000" y="643680"/>
              <a:ext cx="1865160" cy="36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5160" y="595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92000" y="2347920"/>
            <a:ext cx="1865160" cy="459720"/>
            <a:chOff x="1692000" y="2347920"/>
            <a:chExt cx="1865160" cy="459720"/>
          </a:xfrm>
        </p:grpSpPr>
        <p:sp>
          <p:nvSpPr>
            <p:cNvPr id="188" name=""/>
            <p:cNvSpPr/>
            <p:nvPr/>
          </p:nvSpPr>
          <p:spPr>
            <a:xfrm rot="10800000">
              <a:off x="1692000" y="2396880"/>
              <a:ext cx="1865160" cy="36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5160" y="23479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586640" y="5265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31280" y="584208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3240" y="46530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15840" y="4149720"/>
            <a:ext cx="138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oR</a:t>
            </a:r>
            <a:r>
              <a:rPr b="0" lang="en-GB" sz="2800" spc="-1" strike="noStrike" baseline="-25000">
                <a:solidFill>
                  <a:srgbClr val="008000"/>
                </a:solidFill>
                <a:latin typeface="Arial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94440" y="4149720"/>
            <a:ext cx="127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s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100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526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x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5800" y="587232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58420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39400" y="4622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3080" y="52642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314960" y="981000"/>
            <a:ext cx="579600" cy="1440000"/>
            <a:chOff x="4314960" y="981000"/>
            <a:chExt cx="579600" cy="1440000"/>
          </a:xfrm>
        </p:grpSpPr>
        <p:sp>
          <p:nvSpPr>
            <p:cNvPr id="202" name=""/>
            <p:cNvSpPr/>
            <p:nvPr/>
          </p:nvSpPr>
          <p:spPr>
            <a:xfrm>
              <a:off x="4314960" y="981000"/>
              <a:ext cx="0" cy="14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9320" y="1395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27280" y="1773360"/>
            <a:ext cx="1728720" cy="642600"/>
            <a:chOff x="2627280" y="1773360"/>
            <a:chExt cx="1728720" cy="642600"/>
          </a:xfrm>
        </p:grpSpPr>
        <p:sp>
          <p:nvSpPr>
            <p:cNvPr id="205" name=""/>
            <p:cNvSpPr/>
            <p:nvPr/>
          </p:nvSpPr>
          <p:spPr>
            <a:xfrm>
              <a:off x="2627280" y="234936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97240" y="177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700360" y="5300640"/>
            <a:ext cx="12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013360"/>
            <a:ext cx="2181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distance, so takes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5300640"/>
            <a:ext cx="8636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800" y="4932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irrors travel at v relative to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7052E-007 L 0.39392 8.67052E-007 E">
                                      <p:cBhvr>
                                        <p:cTn id="53" dur="37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4509E-006 L 0.25208 -1.44509E-006 E">
                                      <p:cBhvr>
                                        <p:cTn id="55" dur="37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38778E-017 L 0.41771 1.38778E-017 E">
                                      <p:cBhvr>
                                        <p:cTn id="57" dur="37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5607E-007 L 0.41771 -1.15607E-007 E">
                                      <p:cBhvr>
                                        <p:cTn id="59" dur="37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04046E-006 L 0.18906 -0.20971 E">
                                      <p:cBhvr>
                                        <p:cTn id="61" dur="18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2.77457E-006 L 0.18125 0.20347 E">
                                      <p:cBhvr>
                                        <p:cTn id="65" dur="17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5.78035E-008 L 0.42535 -5.78035E-008 E">
                                      <p:cBhvr>
                                        <p:cTn id="69" dur="37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558880" y="560160"/>
            <a:ext cx="4403160" cy="1860480"/>
            <a:chOff x="2558880" y="560160"/>
            <a:chExt cx="4403160" cy="1860480"/>
          </a:xfrm>
        </p:grpSpPr>
        <p:sp>
          <p:nvSpPr>
            <p:cNvPr id="212" name=""/>
            <p:cNvSpPr/>
            <p:nvPr/>
          </p:nvSpPr>
          <p:spPr>
            <a:xfrm flipV="1">
              <a:off x="2558880" y="562320"/>
              <a:ext cx="2248920" cy="18583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4807800" y="560160"/>
              <a:ext cx="2154240" cy="177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0800000">
            <a:off x="217188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4956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91240" y="623880"/>
            <a:ext cx="0" cy="167472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9440" y="12589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22600" y="2298600"/>
            <a:ext cx="223200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53200" y="1708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v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431172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940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45156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2924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217008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430992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760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45012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2780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81680" y="995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1280" y="3238560"/>
            <a:ext cx="37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ct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= (c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+ (vt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160" y="28526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ytha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68680" y="4156200"/>
            <a:ext cx="2503800" cy="1291680"/>
            <a:chOff x="868680" y="4156200"/>
            <a:chExt cx="2503800" cy="1291680"/>
          </a:xfrm>
        </p:grpSpPr>
        <p:sp>
          <p:nvSpPr>
            <p:cNvPr id="234" name=""/>
            <p:cNvSpPr/>
            <p:nvPr/>
          </p:nvSpPr>
          <p:spPr>
            <a:xfrm>
              <a:off x="868680" y="4156200"/>
              <a:ext cx="250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 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–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5200" y="480528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2600" y="480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01720" y="5380200"/>
            <a:ext cx="2936520" cy="1218960"/>
            <a:chOff x="801720" y="5380200"/>
            <a:chExt cx="2936520" cy="1218960"/>
          </a:xfrm>
        </p:grpSpPr>
        <p:sp>
          <p:nvSpPr>
            <p:cNvPr id="238" name=""/>
            <p:cNvSpPr/>
            <p:nvPr/>
          </p:nvSpPr>
          <p:spPr>
            <a:xfrm>
              <a:off x="801720" y="5380200"/>
              <a:ext cx="29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 1 – 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 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73280" y="595656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60680" y="6029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7040" y="5524560"/>
              <a:ext cx="1584360" cy="1008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52200" y="541800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 = </a:t>
            </a: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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5445000"/>
            <a:ext cx="2448000" cy="1152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37080" y="3141720"/>
            <a:ext cx="2590920" cy="2082600"/>
            <a:chOff x="5437080" y="3141720"/>
            <a:chExt cx="2590920" cy="2082600"/>
          </a:xfrm>
        </p:grpSpPr>
        <p:sp>
          <p:nvSpPr>
            <p:cNvPr id="245" name=""/>
            <p:cNvSpPr/>
            <p:nvPr/>
          </p:nvSpPr>
          <p:spPr>
            <a:xfrm>
              <a:off x="5437080" y="3195720"/>
              <a:ext cx="71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5520" y="458172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465480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99280" y="4149720"/>
              <a:ext cx="1584360" cy="10083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1880" y="407700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– 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05440" y="3141720"/>
              <a:ext cx="40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7640" y="38433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1640" y="3998880"/>
              <a:ext cx="2016360" cy="1152720"/>
            </a:xfrm>
            <a:custGeom>
              <a:avLst/>
              <a:gdLst/>
              <a:ahLst/>
              <a:rect l="l" t="t" r="r" b="b"/>
              <a:pathLst>
                <a:path w="1316" h="726">
                  <a:moveTo>
                    <a:pt x="0" y="590"/>
                  </a:moveTo>
                  <a:lnTo>
                    <a:pt x="46" y="726"/>
                  </a:lnTo>
                  <a:lnTo>
                    <a:pt x="136" y="0"/>
                  </a:lnTo>
                  <a:lnTo>
                    <a:pt x="13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435840" y="141444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t = </a:t>
            </a:r>
            <a:r>
              <a:rPr b="0" lang="en-US" sz="6000" spc="-1" strike="noStrike">
                <a:solidFill>
                  <a:srgbClr val="0000ff"/>
                </a:solidFill>
                <a:latin typeface="Symbol"/>
                <a:ea typeface="Symbol"/>
              </a:rPr>
              <a:t>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787480"/>
            <a:ext cx="792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Snai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views FoR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mirror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ock ticking slower by factor of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95640" y="3933720"/>
            <a:ext cx="482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ime dil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5651640" y="622440"/>
            <a:ext cx="3584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Wristwatch time for 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mi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60280"/>
            <a:ext cx="4105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snail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view of 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mirror 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wrist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1414440"/>
            <a:ext cx="360360" cy="287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219640" y="1414440"/>
            <a:ext cx="432000" cy="287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44:53Z</dcterms:created>
  <dc:creator>Bridges</dc:creator>
  <dc:description/>
  <dc:language>en-US</dc:language>
  <cp:lastModifiedBy>PALMER</cp:lastModifiedBy>
  <dcterms:modified xsi:type="dcterms:W3CDTF">2011-07-13T08:03:37Z</dcterms:modified>
  <cp:revision>12</cp:revision>
  <dc:subject/>
  <dc:title>Slide 1</dc:title>
</cp:coreProperties>
</file>